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gif" ContentType="image/gi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7862-FEB6-473A-9C87-B8702987E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4F9A-6805-4563-8BB7-394F583DE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15F5-AAC8-4C63-9088-529026CE1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76E5-D091-4BD9-92C0-3F1D720AC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B695-D046-46AC-B18A-7F1AC5F61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96EA-4B56-49D3-BF18-2B737577E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1B38-4828-475D-9F78-466B7BFC2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B44E-7335-489F-A7DE-63BC269CF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0DCC-780D-4FDA-A4F2-B33C77FA3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763E-6C96-4A59-AE47-C015E5EBF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D796-7DC1-462B-A9DC-708F5E4C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4618-CAB4-4BF5-AA3A-316E1D12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F41DA-F660-469A-BAB2-2409098874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virtualprojectconsulting.com/images/sci_17_hand.gif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facebook.com/album.php?profile=1&amp;id=1316780379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19320" y="304920"/>
            <a:ext cx="6271920" cy="314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he Golden Ratio!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2" name=""/>
          <p:cNvSpPr txBox="1"/>
          <p:nvPr/>
        </p:nvSpPr>
        <p:spPr>
          <a:xfrm rot="20620800">
            <a:off x="0" y="4495320"/>
            <a:ext cx="88012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By-Kaevaan Setalvad of Grade 7.2!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80880" y="228600"/>
            <a:ext cx="8229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Beautiful Faces!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124080" y="3962520"/>
            <a:ext cx="3581640" cy="26859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800760" y="1447920"/>
            <a:ext cx="2343240" cy="3124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57200" y="1523880"/>
            <a:ext cx="32004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52280" y="152280"/>
            <a:ext cx="86108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elebrity Faces!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800600"/>
        </p:xfrm>
        <a:graphic>
          <a:graphicData uri="http://schemas.openxmlformats.org/drawingml/2006/table">
            <a:tbl>
              <a:tblPr/>
              <a:tblGrid>
                <a:gridCol w="1176480"/>
                <a:gridCol w="1185840"/>
                <a:gridCol w="1164960"/>
                <a:gridCol w="1175040"/>
                <a:gridCol w="1176120"/>
                <a:gridCol w="1174680"/>
                <a:gridCol w="1176480"/>
              </a:tblGrid>
              <a:tr h="120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dge wid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ye wid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dge/Eye Rat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th wid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eth wid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th/       Teeth         Ratio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:0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nnif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 c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:0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 c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0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ss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c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 c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 c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: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beautiful people and normal people do have different ratios, beautiful people have a ratio close to 1.6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28600" y="228600"/>
            <a:ext cx="85345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omparing!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4619520" cy="28573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657600" y="4559400"/>
            <a:ext cx="4724280" cy="22986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304920" y="228600"/>
            <a:ext cx="86104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Golden Ratio Examples!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3" name=""/>
          <p:cNvSpPr/>
          <p:nvPr/>
        </p:nvSpPr>
        <p:spPr>
          <a:xfrm>
            <a:off x="5334120" y="1828800"/>
            <a:ext cx="3657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ncient Greek ruins from the Acropolis in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thens. Thisis where the Parthenon is built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80060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olden Ratio in your own body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virtualprojectconsulting.com/images/sci_17_hand.gif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228600"/>
            <a:ext cx="86104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Interesting Site!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really enjoyed this investigation. It was not like the normal 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think the Golden ratio concept, is an interesting o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28600" y="228600"/>
            <a:ext cx="84582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eflection!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0456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idth of my Eye- 3 c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idth of the Bridge of my Nose- 2 c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idth of my Smile-8 c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idth of my Teeth when I smile- 6.5 c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28600" y="228600"/>
            <a:ext cx="86868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y Measurments!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ridge width/Eye width= 2/3= 1.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Mouth width/Teeth width= 8/5.5= 1.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o, the two are not exactly the same, but they are very close to each othe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04920" y="228600"/>
            <a:ext cx="88390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atio!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04560" y="12949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ye Width= 10 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dge Width=10 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uth Width= 15 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eth Width= 10mm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52280"/>
            <a:ext cx="8915400" cy="87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oi!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9" name="profile_pic" descr="Kaevaan Setalv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29200" y="1676520"/>
            <a:ext cx="285768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28600" y="228600"/>
            <a:ext cx="8610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y Friends!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33520" y="1195560"/>
          <a:ext cx="8305200" cy="5357160"/>
        </p:xfrm>
        <a:graphic>
          <a:graphicData uri="http://schemas.openxmlformats.org/drawingml/2006/table">
            <a:tbl>
              <a:tblPr/>
              <a:tblGrid>
                <a:gridCol w="1187280"/>
                <a:gridCol w="1187280"/>
                <a:gridCol w="1183680"/>
                <a:gridCol w="1188720"/>
                <a:gridCol w="1183680"/>
                <a:gridCol w="1187280"/>
                <a:gridCol w="1187280"/>
              </a:tblGrid>
              <a:tr h="95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dge wid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ye wid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dge/Eye Rat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th wid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eth wid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th/       Teeth         Ratio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h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 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: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j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 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: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 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: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 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:1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5 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 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8:1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sh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 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1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 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: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 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 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:1.1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akas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 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5: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5 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 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3:1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ash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: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: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ddh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cm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: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a few of them were differ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, they were not very differe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52280" y="228600"/>
            <a:ext cx="84582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omparing Faces!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52280" y="228600"/>
            <a:ext cx="87631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Adults Measurments!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28600" y="1676520"/>
          <a:ext cx="8686440" cy="3124080"/>
        </p:xfrm>
        <a:graphic>
          <a:graphicData uri="http://schemas.openxmlformats.org/drawingml/2006/table">
            <a:tbl>
              <a:tblPr/>
              <a:tblGrid>
                <a:gridCol w="1448280"/>
                <a:gridCol w="1447560"/>
                <a:gridCol w="1448280"/>
                <a:gridCol w="1446120"/>
                <a:gridCol w="1447920"/>
                <a:gridCol w="1448280"/>
              </a:tblGrid>
              <a:tr h="156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dge Wid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ye    Wid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dge Eye    Rat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th Wid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eth  Wid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th Teeth Rat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c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 c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:3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 c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c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: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efef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the two ratios are simi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re not very similar to those of my clas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28600" y="228600"/>
            <a:ext cx="8458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Observations!!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0-04-25T12:09:50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